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6742-16E2-4B39-A21E-DF087E46A31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66DA-9FC8-4C89-9FD1-7C0ACC117F0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C922-E200-4CAC-88AD-291B1C6BF47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FF11-C5A6-4445-852E-72186D9C6A3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DB94-775E-4AD6-90A3-43423D18A03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BEA0-63A0-4001-AE2B-6D8333B7DBB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520B-1F58-4AA0-8471-2C61AA1FFA9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A516-2A59-4BE4-B8C9-DFA1ABE35A7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E228-F539-4200-AE14-92E50118214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0AAD-237B-4DD5-988D-39959860AA6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6320-F381-41E1-B50C-528CE91BE2C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6BB5-3507-4A95-BE24-48CEEA3CC17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C195-C05C-4784-B22A-C695947C2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09FA-0FD5-4DD8-BF24-0AF680578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BA4C-D32D-4576-88B7-4A1F12C6E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1D42-F465-4068-9F80-C991554EE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10BA5-D9D9-4E84-9F76-E5025EA4B6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DA56-27CF-46D4-A6AF-AEDFD9141F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0963-D571-4A1A-97AC-C442A32F82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BA6B-0C71-42CF-B66D-E7BF1D5DF0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BC1B3-E42D-4867-99B0-6C94F428FC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D59F6-43F4-49FE-BED1-4B5D0417B4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FC54-57F7-4A3F-BE3D-9FBC848981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18A1-F1F5-430F-9AEF-C60B92936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5D93-2051-4239-8841-476C8E5C48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E369-9916-4407-A8BD-A9D007D268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D712B-9148-4E39-BE85-E8E1A7217A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14BB-C473-49D0-B4F2-4F50F59FFE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98158-4E1F-4FB4-AB38-85E02D476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7491-7164-4EA5-B997-17564D5D5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2206-3356-4D51-8210-F6F4BC82C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E208-3458-4312-9FFC-D011DD0B3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E6D3-58B5-4C08-8F9F-3272E2B5C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B0A5-CDEE-4E8E-9A67-931564773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623F-03F0-4CFE-9F62-F2110E73B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2FC9-F0F8-4F97-95EC-EF246D089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ABA7-4A04-4D13-8239-E66471067A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885000" y="6048000"/>
            <a:ext cx="1905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FA59-FFBD-4DA5-85B1-D20894948D2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68360" y="2276640"/>
            <a:ext cx="8207280" cy="36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◎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PT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파일을 사용해야 합니다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헤드라인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PT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의 템플릿을 변경할 수 없습니다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헤드라인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PT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의 양식을 변경할 수 없습니다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◎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파일제목은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용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과제접수번호”입니다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◎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시간은 과제별 지정된 시간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5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 또는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5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초과할 수 없으므로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PT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작성시 참고바랍니다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*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공고문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선정방법의 발표평가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혼합평가 및 공고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과제 목록 평가방법 참조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※ </a:t>
            </a:r>
            <a:r>
              <a:rPr b="0" lang="ko-KR" sz="24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본 페이지는 발표자료에서 삭제하여야 합니다</a:t>
            </a:r>
            <a:r>
              <a:rPr b="0" lang="en-US" sz="24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50920" y="549360"/>
            <a:ext cx="8642160" cy="1556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20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식약처 출연연구개발과제 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선정 발표평가자료 작성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개발비 명세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기관별 연구개발비 총괄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br>
              <a:rPr sz="1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86"/>
          <p:cNvSpPr/>
          <p:nvPr/>
        </p:nvSpPr>
        <p:spPr>
          <a:xfrm>
            <a:off x="7007400" y="955800"/>
            <a:ext cx="14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8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Rectangle 18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17640" y="1231920"/>
          <a:ext cx="7308720" cy="4680000"/>
        </p:xfrm>
        <a:graphic>
          <a:graphicData uri="http://schemas.openxmlformats.org/drawingml/2006/table">
            <a:tbl>
              <a:tblPr/>
              <a:tblGrid>
                <a:gridCol w="485640"/>
                <a:gridCol w="576360"/>
                <a:gridCol w="593640"/>
                <a:gridCol w="792360"/>
                <a:gridCol w="323640"/>
                <a:gridCol w="649440"/>
                <a:gridCol w="647640"/>
                <a:gridCol w="647640"/>
                <a:gridCol w="647640"/>
                <a:gridCol w="649440"/>
                <a:gridCol w="647640"/>
                <a:gridCol w="647640"/>
              </a:tblGrid>
              <a:tr h="274680"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목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gridSpan="5"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세목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 rowSpan="18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접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rowSpan="7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rowSpan="6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원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row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내부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외부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 지원인력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생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건비 소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시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․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비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반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통합관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활동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재료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수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위탁연구개발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접비 소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2937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간접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gridSpan="6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개발비 총액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화 계획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당 시 작성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타사항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당 시 작성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연연구개발과제 제안요청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FP)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목표</a:t>
            </a:r>
            <a:br>
              <a:rPr sz="2000"/>
            </a:b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내용</a:t>
            </a:r>
            <a:br>
              <a:rPr sz="2000"/>
            </a:b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표성과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대효과 및 연구성과 활용계획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타사항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부사업명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협동연구책임자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당사항 없으면 삭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 월       일 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     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 월       일 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해연도 총연구개발비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원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부출연금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(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민간부담금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개발의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2"/>
          <p:cNvSpPr/>
          <p:nvPr/>
        </p:nvSpPr>
        <p:spPr>
          <a:xfrm>
            <a:off x="684360" y="765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개발의 목표 및 내용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개발의 추진전략∙방법 및 추진체계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개발성과의 활용방안 및 기대효과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기관 현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개발비 명세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개발비 총괄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br>
              <a:rPr sz="1600"/>
            </a:br>
            <a:br>
              <a:rPr sz="16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86"/>
          <p:cNvSpPr/>
          <p:nvPr/>
        </p:nvSpPr>
        <p:spPr>
          <a:xfrm>
            <a:off x="7007400" y="955800"/>
            <a:ext cx="14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Rectangle 8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18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17640" y="1231920"/>
          <a:ext cx="7308720" cy="4680000"/>
        </p:xfrm>
        <a:graphic>
          <a:graphicData uri="http://schemas.openxmlformats.org/drawingml/2006/table">
            <a:tbl>
              <a:tblPr/>
              <a:tblGrid>
                <a:gridCol w="485640"/>
                <a:gridCol w="576360"/>
                <a:gridCol w="593640"/>
                <a:gridCol w="792360"/>
                <a:gridCol w="323640"/>
                <a:gridCol w="649440"/>
                <a:gridCol w="647640"/>
                <a:gridCol w="647640"/>
                <a:gridCol w="647640"/>
                <a:gridCol w="649440"/>
                <a:gridCol w="647640"/>
                <a:gridCol w="647640"/>
              </a:tblGrid>
              <a:tr h="274680"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목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gridSpan="5"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세목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 rowSpan="18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접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rowSpan="7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rowSpan="6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원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row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내부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외부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 지원인력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생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건비 소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시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․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비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반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통합관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활동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재료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수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위탁연구개발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접비 소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2937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간접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gridSpan="6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개발비 총액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RnDMTF</cp:lastModifiedBy>
  <dcterms:modified xsi:type="dcterms:W3CDTF">2019-10-17T15:07:47Z</dcterms:modified>
  <cp:revision>84</cp:revision>
  <dc:subject/>
  <dc:title>2006년도 식품의약품안전청 공개발표 선정평가    ℹ 사 업 명 :   ℹ 과 제 명 :   ℹ 연 구 비 :   ℹ 신청기관 :   ℹ 주관연구책임자 :</dc:title>
</cp:coreProperties>
</file>