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8AE-B9B1-47C7-8710-FB72A9E211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D13-B3D3-436F-8740-FF2C3BE695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85B-37D6-4FF3-96F1-FF98995DC8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84A7-60E6-42D3-AADC-3C066296EB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3CA4-FEC6-4483-A066-7EBFA9E57E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9343-59D4-4EFC-8F90-58CF4A3299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C98A-5FF9-45C6-B177-666AE6B08B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D48D-B733-4B8C-A0F9-8C1450F0D9C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7CE6-7CEA-4700-BB45-63CB4AA02B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ACA-3969-4A97-BE46-B76B2B9EEB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24E-4F5C-4842-ADF5-669489077B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F61-F237-4AEE-ACFF-4AF18EFDAE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9B40-C62A-4CEA-8F47-8134077259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6DA-552D-4442-BD8A-99DF77F80A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5A8A-EF46-4646-9C01-C5B4733EC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83BC-3811-401C-B846-A4FE2F9AE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0F66-11E8-460E-ACB5-C74984F1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B40E-5A39-488B-A2FB-27266D3DF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CC72-4F38-4A87-8288-F75A75523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FCA2-E901-43E9-BE7E-D7A212CC0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728-774F-4773-A25E-F17A96560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30D9-4A75-4D54-B46E-03E20074D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6F9E-84A3-4278-84C3-14D888250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8EB5-3F10-4902-9B23-63B63ABD2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0ACF-302A-40ED-8EC8-66ED0A4CB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244F-971A-44F1-B49A-6D4353F97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5C9C-6729-4E19-87DB-2002E4CDE0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05000"/>
            <a:ext cx="8207280" cy="43196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제공 파일양식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구성 및 기본 양식은 변경할 수 없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*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은 변경 가능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을 수 있으므로 가급적 자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표 그림의 깨짐을 방지하기 위하여 파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환 제출 권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 후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접수된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은 절대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수정 불가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합니다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파일명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i="1" lang="ko-KR" sz="20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인의 접수번호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로 작성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평가 시간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이므로 발표자료 작성시 참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부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i="1" lang="ko-KR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평가 발표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참고하여  작성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0-02-04T12:31:30Z</dcterms:modified>
  <cp:revision>79</cp:revision>
  <dc:subject/>
  <dc:title>2006년도 식품의약품안전청 공개발표 선정평가    ℹ 사 업 명 :   ℹ 과 제 명 :   ℹ 연 구 비 :   ℹ 신청기관 :   ℹ 주관연구책임자 :</dc:title>
</cp:coreProperties>
</file>