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95A3-75D5-481C-BA69-090B02EC344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2464-A041-401F-B68B-2A3F435B097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BF44-828C-4023-B2EA-162427B9A41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105A-6985-47C6-BE5A-BBEA0B38EE9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3F03-0D64-4CF3-86ED-568A57165A6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5828-04D5-44CD-A7F3-7B16BAD5F1F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5255-F6A7-4DD8-B5C5-0009A37F036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23B6-D47B-4B08-8BC0-90CCB2C02F7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1624-BB3C-49C3-836C-989DB9AA145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04E6-C84D-4DC2-95A7-DD86950374D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6BA5-39CC-461B-B10D-E01A79E0D8D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38A8-F2D4-4DD8-A1AC-2A26CA57BFC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B03D-25FA-45ED-8091-7EA4FD6A4D8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0E4A-B7E4-4464-99C6-8A907BE5ABE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71A2-98C2-4BE6-BBA7-568EAB77D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405D-49F3-4AFA-A8E9-20C6ACDA7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D23A-9BC7-4FBF-A137-078DDBBFA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5A07-B9EA-4496-819B-7A52693944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E76C-01BB-4817-8984-F8DD45ADAF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7608-0C64-49AD-8F42-9447BB9F4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1933-DA35-4C18-9313-EB6C2D26C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526B-8B37-4640-AB34-56B4CA66C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E5C4-755B-4888-B355-E6203C2EA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BC81-24C4-4480-9928-05D590D87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892A-C8B8-4988-9FC3-D5F97E184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E829-37A1-4C04-8462-E1B4A640C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579C-D2A9-4608-BF63-6F7AF483074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68360" y="407664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첨부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는 본 파일에서 제시하는 구성 및 목차 순으로 제작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폰트 및 배경 등 디자인 요소는 자유롭게 제작 가능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DF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파일로 업로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324720"/>
            <a:ext cx="878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1197000"/>
          <a:ext cx="8207280" cy="2736720"/>
        </p:xfrm>
        <a:graphic>
          <a:graphicData uri="http://schemas.openxmlformats.org/drawingml/2006/table">
            <a:tbl>
              <a:tblPr/>
              <a:tblGrid>
                <a:gridCol w="1211040"/>
                <a:gridCol w="4372200"/>
                <a:gridCol w="2624040"/>
              </a:tblGrid>
              <a:tr h="380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평가방법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42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출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파일로 연구관리시스템에 업로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관리시스템 과제신청 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“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 대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“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체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식약처 주관부서에서 진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1"/>
          <p:cNvSpPr/>
          <p:nvPr/>
        </p:nvSpPr>
        <p:spPr>
          <a:xfrm>
            <a:off x="468360" y="5805360"/>
            <a:ext cx="8207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제출 후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,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접수된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파일은 절대 수정 불가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본 페이지는 발표자료에서 삭제해 주시기 바랍니다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669456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11280" y="1484280"/>
          <a:ext cx="7993080" cy="4827600"/>
        </p:xfrm>
        <a:graphic>
          <a:graphicData uri="http://schemas.openxmlformats.org/drawingml/2006/table">
            <a:tbl>
              <a:tblPr/>
              <a:tblGrid>
                <a:gridCol w="958680"/>
                <a:gridCol w="1262160"/>
                <a:gridCol w="1009800"/>
                <a:gridCol w="2220840"/>
                <a:gridCol w="1211040"/>
                <a:gridCol w="133056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1" name="Text Box 86"/>
          <p:cNvSpPr/>
          <p:nvPr/>
        </p:nvSpPr>
        <p:spPr>
          <a:xfrm>
            <a:off x="7524720" y="1152360"/>
            <a:ext cx="14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외출장의 적절성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(</a:t>
            </a:r>
            <a:r>
              <a:rPr b="0" i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해당사항 없으면 삭제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)</a:t>
            </a:r>
            <a:r>
              <a:rPr b="0" i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지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자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비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345456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수행 일정의 적정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3178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적하는 연구결과 도출 가능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352584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성과의 활용 가능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과제제안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FP) </a:t>
            </a:r>
            <a:r>
              <a:rPr b="0" i="1" lang="en-US" sz="16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6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11280" y="549360"/>
            <a:ext cx="78483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위과제명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명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 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번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번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연구관리시스템상 접수번호 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연구책임자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연구기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세부연구책임자 </a:t>
            </a:r>
            <a:r>
              <a:rPr b="0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해당사항 없으면 삭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세부연구기관 </a:t>
            </a:r>
            <a:r>
              <a:rPr b="0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해당사항 없으면 삭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기간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월        일     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 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월        일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해연도 연구개발비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원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(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상 연구비 기입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23018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표 및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374184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계획서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FP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부합성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266220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범위 및 내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294948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추진전략 및 체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51102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책임자의 역량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업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문성 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633420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수행에 필요한 시설 및 장비 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(</a:t>
            </a:r>
            <a:r>
              <a:rPr b="0" i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해당사항 없으면 삭제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368360"/>
          <a:ext cx="8136000" cy="4680000"/>
        </p:xfrm>
        <a:graphic>
          <a:graphicData uri="http://schemas.openxmlformats.org/drawingml/2006/table">
            <a:tbl>
              <a:tblPr/>
              <a:tblGrid>
                <a:gridCol w="2140200"/>
                <a:gridCol w="928440"/>
                <a:gridCol w="1928880"/>
                <a:gridCol w="2211480"/>
                <a:gridCol w="927000"/>
              </a:tblGrid>
              <a:tr h="72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57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mfds</cp:lastModifiedBy>
  <cp:lastPrinted>2020-02-04T06:07:16Z</cp:lastPrinted>
  <dcterms:modified xsi:type="dcterms:W3CDTF">2022-02-24T01:14:22Z</dcterms:modified>
  <cp:revision>119</cp:revision>
  <dc:subject/>
  <dc:title>2006년도 식품의약품안전청 공개발표 선정평가    ℹ 사 업 명 :   ℹ 과 제 명 :   ℹ 연 구 비 :   ℹ 신청기관 :   ℹ 주관연구책임자 :</dc:title>
</cp:coreProperties>
</file>