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2172-02D9-4712-AACC-608DD0222F8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7913-EE0C-4E47-A970-5823F061C90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BB56-9B7A-410C-94F2-5428AA7B195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3AB9-4BAB-4487-A72D-E5768C77C6C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A609-7460-402D-9615-35DD895D8E5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3C83-77B1-4F39-A0B1-C7E7AFF3DA0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7C07-147C-45BB-8234-FD8F742E785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D308-C6BC-4675-988D-6706970F423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83FA-A667-4D64-8D67-9093D497AD6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5585-F585-469A-8C06-DAE57EEEDA3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32CA-A3AF-4127-9C65-FF86326CE30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49C8-7F93-41A0-95E9-A11D11385CF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EDB1-B269-4F3B-A5F1-31531236D1E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043C-E705-4034-84FA-B7E738483BE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C165-9E31-45B1-A12E-90BA64959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A381-836C-46F2-A4FF-79A07DEF2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1BB6-D708-4D85-B286-96EBB10AF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C9D6-7112-49A7-99A5-7DE32EDCD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B8BD-933F-4073-B96C-B44383CE27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30C8-C833-4FC4-8AA3-325599254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E92D-A284-4307-8591-23119BA6B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8F8F-7CB4-4748-8995-C63978F32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5B89-AE96-40A1-A190-CF09C23F5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7775-EB39-4882-A06A-113651860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881F-6D87-48B3-A4E4-60D29770A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B3D5-25FA-4529-AB2E-AE2C0271C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3D54-048C-4D30-8C92-8141EB2F2B0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68360" y="407664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첨부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는 본 파일에서 제시하는 구성 및 목차 순으로 제작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폰트 및 배경 등 디자인 요소는 자유롭게 제작 가능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DF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파일로 업로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324720"/>
            <a:ext cx="878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1197000"/>
          <a:ext cx="8207280" cy="2736720"/>
        </p:xfrm>
        <a:graphic>
          <a:graphicData uri="http://schemas.openxmlformats.org/drawingml/2006/table">
            <a:tbl>
              <a:tblPr/>
              <a:tblGrid>
                <a:gridCol w="1211040"/>
                <a:gridCol w="4372200"/>
                <a:gridCol w="2624040"/>
              </a:tblGrid>
              <a:tr h="380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평가방법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42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출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파일로 연구관리시스템에 업로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관리시스템 과제신청 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“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 대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“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체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식약처 주관부서에서 진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1"/>
          <p:cNvSpPr/>
          <p:nvPr/>
        </p:nvSpPr>
        <p:spPr>
          <a:xfrm>
            <a:off x="468360" y="5805360"/>
            <a:ext cx="8207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제출 후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,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접수된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파일은 절대 수정 불가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본 페이지는 발표자료에서 삭제해 주시기 바랍니다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669456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11280" y="1484280"/>
          <a:ext cx="7993080" cy="4827600"/>
        </p:xfrm>
        <a:graphic>
          <a:graphicData uri="http://schemas.openxmlformats.org/drawingml/2006/table">
            <a:tbl>
              <a:tblPr/>
              <a:tblGrid>
                <a:gridCol w="958680"/>
                <a:gridCol w="1262160"/>
                <a:gridCol w="1009800"/>
                <a:gridCol w="2220840"/>
                <a:gridCol w="1211040"/>
                <a:gridCol w="133056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1" name="Text Box 86"/>
          <p:cNvSpPr/>
          <p:nvPr/>
        </p:nvSpPr>
        <p:spPr>
          <a:xfrm>
            <a:off x="7524720" y="1152360"/>
            <a:ext cx="14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외출장의 적절성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(</a:t>
            </a:r>
            <a:r>
              <a:rPr b="0" i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해당사항 없으면 삭제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)</a:t>
            </a:r>
            <a:r>
              <a:rPr b="0" i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지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자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비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345456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수행 일정의 적정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3178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적하는 연구결과 도출 가능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352584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성과의 활용 가능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과제제안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FP) </a:t>
            </a:r>
            <a:r>
              <a:rPr b="0" i="1" lang="en-US" sz="16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6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11280" y="549360"/>
            <a:ext cx="78483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위과제명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명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 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번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번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연구관리시스템상 접수번호 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연구책임자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연구기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세부연구책임자 </a:t>
            </a:r>
            <a:r>
              <a:rPr b="0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해당사항 없으면 삭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세부연구기관 </a:t>
            </a:r>
            <a:r>
              <a:rPr b="0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해당사항 없으면 삭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기간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월        일     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 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월        일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해연도 연구개발비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원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(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상 연구비 기입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23018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표 및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374184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계획서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FP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부합성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266220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범위 및 내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294948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추진전략 및 체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51102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책임자의 역량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업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문성 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633420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수행에 필요한 시설 및 장비 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(</a:t>
            </a:r>
            <a:r>
              <a:rPr b="0" i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해당사항 없으면 삭제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368360"/>
          <a:ext cx="8136000" cy="4680000"/>
        </p:xfrm>
        <a:graphic>
          <a:graphicData uri="http://schemas.openxmlformats.org/drawingml/2006/table">
            <a:tbl>
              <a:tblPr/>
              <a:tblGrid>
                <a:gridCol w="2140200"/>
                <a:gridCol w="928440"/>
                <a:gridCol w="1928880"/>
                <a:gridCol w="2211480"/>
                <a:gridCol w="927000"/>
              </a:tblGrid>
              <a:tr h="72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57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mfds</cp:lastModifiedBy>
  <cp:lastPrinted>2020-02-04T06:07:16Z</cp:lastPrinted>
  <dcterms:modified xsi:type="dcterms:W3CDTF">2022-02-24T01:14:22Z</dcterms:modified>
  <cp:revision>119</cp:revision>
  <dc:subject/>
  <dc:title>2006년도 식품의약품안전청 공개발표 선정평가    ℹ 사 업 명 :   ℹ 과 제 명 :   ℹ 연 구 비 :   ℹ 신청기관 :   ℹ 주관연구책임자 :</dc:title>
</cp:coreProperties>
</file>