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227-D51B-4F37-959D-6C1A9BEEAFB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FF66-945F-4546-AA9C-0FC2990CB1D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5457-DFC7-4E8B-BDB1-526611312D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878B-05CA-46FA-936F-ADD6DFEA3FA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0932-19C7-487F-A39B-2F8A128B348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E04C-16BF-4D5F-9D04-1A942601ABB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A841-6FC0-4FA0-B773-5E5F45A78B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1EF8-1965-4033-A79C-16185CBACA1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4ADC-C452-47C0-8BBD-82A5C6FDD28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B533-784C-4112-9A6F-28029746043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7D31-458E-46D4-B322-A5170283A45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A2CD-4FF8-4D0D-89A8-450D2AAF89A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6FD5-9E19-4FA9-9245-CAAD30FF693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CCD0-8176-44FB-966F-7CD4BAF075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AA6D-DABE-4F74-84FD-E8502CE9D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92B3-C0FD-4247-97FA-CDE4733D1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E685-5FA5-4398-AF96-79110A185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D871-A994-4F9B-A6E5-6850E0B22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EC08-880F-48BF-9F54-9DD14A01A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81BF-6552-4958-B5B1-47AF738B8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1B2A-476E-4327-AD4B-EE721CF64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C0B3-34A8-4780-896F-B75AD9F8B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DEA2-D108-415B-98D1-D677C731A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BECE-C344-4B12-85D6-73A40A747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891F-222F-44A5-9098-899DF7605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AE55-8A32-4C51-A675-653B6D17A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91D5-C223-4942-A66A-3E526E85A4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2205000"/>
            <a:ext cx="8207280" cy="43196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제공 파일양식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구성 및 기본 양식은 변경할 수 없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(*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은 변경 가능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애니메이션 효과는 구현되지 않을 수 있으므로 가급적 자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수 폰트 및 표 그림의 깨짐을 방지하기 위하여 파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DF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환 제출 권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파일명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1" i="1" lang="ko-KR" sz="20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인의 접수번호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로 작성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평가 시간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0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이므로 발표자료 작성시 참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설명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부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질의응답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i="1" lang="ko-KR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549360"/>
            <a:ext cx="8642160" cy="145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20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식약처 용역연구개발과제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획연구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정평가 발표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참고하여  작성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 제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 수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협동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협동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dcterms:modified xsi:type="dcterms:W3CDTF">2020-01-02T08:07:58Z</dcterms:modified>
  <cp:revision>75</cp:revision>
  <dc:subject/>
  <dc:title>2006년도 식품의약품안전청 공개발표 선정평가    ℹ 사 업 명 :   ℹ 과 제 명 :   ℹ 연 구 비 :   ℹ 신청기관 :   ℹ 주관연구책임자 :</dc:title>
</cp:coreProperties>
</file>