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3"/>
          </p:nvPr>
        </p:nvSpPr>
        <p:spPr>
          <a:xfrm>
            <a:off x="381600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4"/>
          </p:nvPr>
        </p:nvSpPr>
        <p:spPr>
          <a:xfrm>
            <a:off x="-36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5"/>
          </p:nvPr>
        </p:nvSpPr>
        <p:spPr>
          <a:xfrm>
            <a:off x="381600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7BE17-0E53-43E8-8B05-CCA9DE163F1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5D0E2-9CF0-4429-B292-D3AC5A1A971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4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6"/>
          <p:cNvSpPr/>
          <p:nvPr/>
        </p:nvSpPr>
        <p:spPr>
          <a:xfrm>
            <a:off x="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D19CD-34FC-4D43-84C9-86CE97A07B8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4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6"/>
          <p:cNvSpPr/>
          <p:nvPr/>
        </p:nvSpPr>
        <p:spPr>
          <a:xfrm>
            <a:off x="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8180A-3F30-476F-80D7-8A831025E5B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4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91D1B-2D36-42EC-A7C5-E63F57A4D2E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4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6"/>
          <p:cNvSpPr/>
          <p:nvPr/>
        </p:nvSpPr>
        <p:spPr>
          <a:xfrm>
            <a:off x="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7F285-0F77-45D8-99FD-6269B0C796B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6"/>
          <p:cNvSpPr/>
          <p:nvPr/>
        </p:nvSpPr>
        <p:spPr>
          <a:xfrm>
            <a:off x="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C5318-0EDB-4A72-83F8-72F0B738892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4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6"/>
          <p:cNvSpPr/>
          <p:nvPr/>
        </p:nvSpPr>
        <p:spPr>
          <a:xfrm>
            <a:off x="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F2117-A7BA-47F6-88D7-8DE996B94D7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4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6"/>
          <p:cNvSpPr/>
          <p:nvPr/>
        </p:nvSpPr>
        <p:spPr>
          <a:xfrm>
            <a:off x="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5B721-2769-4EDC-9B78-D9B61B83349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4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56FEC-DB2A-482B-B5FE-FFDE7B231BB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4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61189-D5DA-4667-B454-ABF7CFA290C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4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79E20-3900-491C-B6AA-C349A24D41B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4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EF21B-4955-423C-AFD4-95963A459A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91295-9AB5-4ED3-A71C-8F5CB88F74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2E1C2-C30A-4A4C-BDE9-104DE72BC0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ED943-7EF8-4559-94A4-4B6A8F9E17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0BADE-DB30-4F59-B1FD-01D3E14B54D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DACC5-9703-418E-848E-042DF9EF913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4B01B-A1E4-4D34-B0A4-50CD4F96C9B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BD9E7-23CD-4D87-A17E-6E4828C5905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027E1-4E18-47B8-A21C-58A3375BF29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E4DD1-1A1B-442C-88D3-4AEF4870D55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8CDE4-3CB7-467F-89B7-B625A575E6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E692E-72DF-4DAA-A73E-5A3F0A8868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F8821-C205-4ACB-A8B5-FD91DADCCB0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C8816-1882-4E14-A465-D0E8822E8C9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ADBBF-6EB6-4F7A-9A40-D0ED7D15062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1F763-8C18-4133-91B0-E066F0BBFFF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6AC80-922E-4EE8-AF7B-5D4E77C0B2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3FF8D-E583-44AC-94C2-0563A0CD4E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3ECD7-1E1F-4CE7-8D24-26F6A13F4B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9FF6D-8468-4D4E-A34B-6DDDAC13A5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C6218-0164-44DD-9506-F886E1A61C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00963-B241-4B75-A12F-67507B5A55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B29E1-BB71-4EAD-96D2-A97E8D99C7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517BE-D46D-4C51-BD75-FDBCAB8A9F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9DB21-C79D-4328-BD7C-A208A9F5D6E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6885000" y="6048000"/>
            <a:ext cx="19051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E9A6-1E52-4CA9-B30D-92CBD1197B8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468360" y="2276640"/>
            <a:ext cx="8207280" cy="367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◎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발표평가자료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PPT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파일을 사용해야 합니다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Y헤드라인M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발표평가자료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PPT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의 템플릿을 변경할 수 없습니다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Y헤드라인M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발표평가자료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PPT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의 양식을 변경할 수 없습니다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◎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파일제목은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발표용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과제접수번호”입니다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◎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발표시간은 과제별 지정된 시간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25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 또는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5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을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초과할 수 없으므로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PPT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작성시 참고바랍니다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*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공고문 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선정방법의 발표평가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/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혼합평가 및 공고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과제 목록 평가방법 참조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※ </a:t>
            </a:r>
            <a:r>
              <a:rPr b="0" lang="ko-KR" sz="24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본 페이지는 발표자료에서 삭제하여야 합니다</a:t>
            </a:r>
            <a:r>
              <a:rPr b="0" lang="en-US" sz="24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250920" y="549360"/>
            <a:ext cx="8642160" cy="1556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020</a:t>
            </a:r>
            <a:r>
              <a:rPr b="0" lang="ko-KR" sz="3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년 식약처 출연연구개발과제 </a:t>
            </a:r>
            <a:endParaRPr b="1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선정 발표평가자료 작성시 주의사항</a:t>
            </a:r>
            <a:endParaRPr b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개발비 명세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기관별 연구개발비 총괄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br>
              <a:rPr sz="16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Text Box 86"/>
          <p:cNvSpPr/>
          <p:nvPr/>
        </p:nvSpPr>
        <p:spPr>
          <a:xfrm>
            <a:off x="7007400" y="955800"/>
            <a:ext cx="145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위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천원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Rectangle 8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Rectangle 18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917640" y="1231920"/>
          <a:ext cx="7308720" cy="4680000"/>
        </p:xfrm>
        <a:graphic>
          <a:graphicData uri="http://schemas.openxmlformats.org/drawingml/2006/table">
            <a:tbl>
              <a:tblPr/>
              <a:tblGrid>
                <a:gridCol w="485640"/>
                <a:gridCol w="576360"/>
                <a:gridCol w="593640"/>
                <a:gridCol w="792360"/>
                <a:gridCol w="323640"/>
                <a:gridCol w="649440"/>
                <a:gridCol w="647640"/>
                <a:gridCol w="647640"/>
                <a:gridCol w="647640"/>
                <a:gridCol w="649440"/>
                <a:gridCol w="647640"/>
                <a:gridCol w="647640"/>
              </a:tblGrid>
              <a:tr h="274680">
                <a:tc rowSpan="2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목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solidFill>
                      <a:srgbClr val="e5e5e5"/>
                    </a:solidFill>
                  </a:tcPr>
                </a:tc>
                <a:tc gridSpan="5" rowSpan="2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세목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solidFill>
                      <a:srgbClr val="e5e5e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차 연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차 연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차 연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4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차 연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5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차 연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solidFill>
                      <a:srgbClr val="e5e5e5"/>
                    </a:solidFill>
                  </a:tcPr>
                </a:tc>
                <a:tc rowSpan="2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합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>
                      <a:noFill/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20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YYYY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YYYY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YYYY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YYYY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YYYY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solidFill>
                      <a:srgbClr val="e5e5e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1600">
                <a:tc rowSpan="18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접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 rowSpan="7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건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 rowSpan="6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구원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 rowSpan="3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내부인건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지급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>
                      <a:noFill/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</a:tr>
              <a:tr h="203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급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금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>
                      <a:noFill/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</a:tr>
              <a:tr h="20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물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>
                      <a:noFill/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</a:tr>
              <a:tr h="20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외부인건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지급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>
                      <a:noFill/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</a:tr>
              <a:tr h="20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급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금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>
                      <a:noFill/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</a:tr>
              <a:tr h="20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물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>
                      <a:noFill/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</a:tr>
              <a:tr h="20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구 지원인력인건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>
                      <a:noFill/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</a:tr>
              <a:tr h="20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생인건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>
                      <a:noFill/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</a:tr>
              <a:tr h="20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건비 소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solidFill>
                      <a:srgbClr val="e5e5e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>
                      <a:noFill/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20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3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구시설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․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비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금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일반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>
                      <a:noFill/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</a:tr>
              <a:tr h="20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통합관리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>
                      <a:noFill/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</a:tr>
              <a:tr h="20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물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>
                      <a:noFill/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</a:tr>
              <a:tr h="20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구활동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>
                      <a:noFill/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</a:tr>
              <a:tr h="20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구재료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금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>
                      <a:noFill/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</a:tr>
              <a:tr h="20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물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>
                      <a:noFill/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</a:tr>
              <a:tr h="27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구수당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>
                      <a:noFill/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</a:tr>
              <a:tr h="20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위탁연구개발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>
                      <a:noFill/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</a:tr>
              <a:tr h="20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접비 소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solidFill>
                      <a:srgbClr val="e5e5e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>
                      <a:noFill/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2937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간접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 gridSpan="5"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>
                      <a:noFill/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</a:tr>
              <a:tr h="201600">
                <a:tc gridSpan="6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구개발비 총액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>
                      <a:noFill/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화 계획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해당 시 작성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타사항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해당 시 작성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연연구개발과제 제안요청서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FP) 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목표</a:t>
            </a:r>
            <a:br>
              <a:rPr sz="2000"/>
            </a:br>
            <a:br>
              <a:rPr sz="2000"/>
            </a:b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내용</a:t>
            </a:r>
            <a:br>
              <a:rPr sz="2000"/>
            </a:br>
            <a:br>
              <a:rPr sz="2000"/>
            </a:b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목표성과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대효과 및 연구성과 활용계획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타사항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부사업명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제명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제번호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수번호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관연구책임자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협동연구책임자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(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해당사항 없으면 삭제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  </a:t>
            </a: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 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기간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     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     월       일  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      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     월       일 </a:t>
            </a:r>
            <a:br>
              <a:rPr sz="2000"/>
            </a:b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해연도 총연구개발비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천원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부출연금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  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천원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(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민간부담금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  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천원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개발의 필요성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2"/>
          <p:cNvSpPr/>
          <p:nvPr/>
        </p:nvSpPr>
        <p:spPr>
          <a:xfrm>
            <a:off x="684360" y="7650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개발의 목표 및 내용 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개발의 추진전략∙방법 및 추진체계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개발성과의 활용방안 및 기대효과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기관 현황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개발비 명세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개발비 총괄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br>
              <a:rPr sz="1600"/>
            </a:br>
            <a:br>
              <a:rPr sz="16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Text Box 86"/>
          <p:cNvSpPr/>
          <p:nvPr/>
        </p:nvSpPr>
        <p:spPr>
          <a:xfrm>
            <a:off x="7007400" y="955800"/>
            <a:ext cx="145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위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천원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Rectangle 8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Rectangle 18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917640" y="1231920"/>
          <a:ext cx="7308720" cy="4680000"/>
        </p:xfrm>
        <a:graphic>
          <a:graphicData uri="http://schemas.openxmlformats.org/drawingml/2006/table">
            <a:tbl>
              <a:tblPr/>
              <a:tblGrid>
                <a:gridCol w="485640"/>
                <a:gridCol w="576360"/>
                <a:gridCol w="593640"/>
                <a:gridCol w="792360"/>
                <a:gridCol w="323640"/>
                <a:gridCol w="649440"/>
                <a:gridCol w="647640"/>
                <a:gridCol w="647640"/>
                <a:gridCol w="647640"/>
                <a:gridCol w="649440"/>
                <a:gridCol w="647640"/>
                <a:gridCol w="647640"/>
              </a:tblGrid>
              <a:tr h="274680">
                <a:tc rowSpan="2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목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solidFill>
                      <a:srgbClr val="e5e5e5"/>
                    </a:solidFill>
                  </a:tcPr>
                </a:tc>
                <a:tc gridSpan="5" rowSpan="2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세목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solidFill>
                      <a:srgbClr val="e5e5e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차 연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차 연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차 연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4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차 연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5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차 연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solidFill>
                      <a:srgbClr val="e5e5e5"/>
                    </a:solidFill>
                  </a:tcPr>
                </a:tc>
                <a:tc rowSpan="2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합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>
                      <a:noFill/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20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YYYY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YYYY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YYYY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YYYY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YYYY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solidFill>
                      <a:srgbClr val="e5e5e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1600">
                <a:tc rowSpan="18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접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 rowSpan="7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건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 rowSpan="6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구원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 rowSpan="3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내부인건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지급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>
                      <a:noFill/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</a:tr>
              <a:tr h="203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급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금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>
                      <a:noFill/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</a:tr>
              <a:tr h="20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물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>
                      <a:noFill/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</a:tr>
              <a:tr h="20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외부인건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지급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>
                      <a:noFill/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</a:tr>
              <a:tr h="20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급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금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>
                      <a:noFill/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</a:tr>
              <a:tr h="20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물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>
                      <a:noFill/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</a:tr>
              <a:tr h="20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구 지원인력인건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>
                      <a:noFill/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</a:tr>
              <a:tr h="20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생인건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>
                      <a:noFill/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</a:tr>
              <a:tr h="20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건비 소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solidFill>
                      <a:srgbClr val="e5e5e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>
                      <a:noFill/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20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3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구시설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․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비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금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일반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>
                      <a:noFill/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</a:tr>
              <a:tr h="20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통합관리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>
                      <a:noFill/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</a:tr>
              <a:tr h="20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물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>
                      <a:noFill/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</a:tr>
              <a:tr h="20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구활동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>
                      <a:noFill/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</a:tr>
              <a:tr h="20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구재료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금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>
                      <a:noFill/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</a:tr>
              <a:tr h="20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물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>
                      <a:noFill/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</a:tr>
              <a:tr h="27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구수당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>
                      <a:noFill/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</a:tr>
              <a:tr h="20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위탁연구개발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>
                      <a:noFill/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</a:tr>
              <a:tr h="20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접비 소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solidFill>
                      <a:srgbClr val="e5e5e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>
                      <a:noFill/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2937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간접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 gridSpan="5"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>
                      <a:noFill/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787878"/>
                      </a:solidFill>
                    </a:lnB>
                    <a:noFill/>
                  </a:tcPr>
                </a:tc>
              </a:tr>
              <a:tr h="201600">
                <a:tc gridSpan="6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구개발비 총액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 w="1440">
                      <a:solidFill>
                        <a:srgbClr val="787878"/>
                      </a:solidFill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1440">
                      <a:solidFill>
                        <a:srgbClr val="787878"/>
                      </a:solidFill>
                    </a:lnL>
                    <a:lnR>
                      <a:noFill/>
                    </a:lnR>
                    <a:lnT w="1440">
                      <a:solidFill>
                        <a:srgbClr val="787878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04:24:03Z</dcterms:created>
  <dc:creator>SEC</dc:creator>
  <dc:description/>
  <dc:language>en-US</dc:language>
  <cp:lastModifiedBy>RnDMTF</cp:lastModifiedBy>
  <dcterms:modified xsi:type="dcterms:W3CDTF">2019-10-17T15:07:47Z</dcterms:modified>
  <cp:revision>84</cp:revision>
  <dc:subject/>
  <dc:title>2006년도 식품의약품안전청 공개발표 선정평가    ℹ 사 업 명 :   ℹ 과 제 명 :   ℹ 연 구 비 :   ℹ 신청기관 :   ℹ 주관연구책임자 :</dc:title>
</cp:coreProperties>
</file>