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455F-0AEC-41D6-9310-349D6A8940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AB23-7535-4F60-8453-621B787066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48A-C2C9-40C6-AFF8-D90C2DBE057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B23B-539F-4656-B441-21CAFAD8310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BD7-B64E-4557-8BA4-B7AA1BE424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EBD8-9576-4753-A9C9-8D5FF449DCC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A294-5A41-45FA-8562-5FB20DDFF6A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0EBF-454B-4335-9FA4-3DD84130F3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FE5C-F0AB-4565-B1CB-38B1786F02E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415A-EA04-47C1-BE21-77AE438C21A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ACD4-F62B-4465-A0B8-7C36D54E57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83E1-88DB-407A-9ECB-E97A915707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4C49-656F-43ED-8858-4BEFEA37CC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DBC3-8031-4475-9145-E488D08AE2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236E-98C4-4EC7-9A73-1011404BD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93E7-A5CA-46BA-9845-F640644A7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328E-D2C7-46D9-ADD0-D4750C3CE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A103-EA2C-4460-B4B2-DB2C40D23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5A0E-1B92-465D-B0B7-A44DAAB40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34E0-E07F-402B-8C57-3DDB6DD2E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CD46-9DEF-44C0-810F-BDB7A9106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6160-B0C2-4F19-BA94-46EF11FB0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7877-F942-451B-AB13-75525FC74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531B-4448-40DE-8A97-411D0E942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E87A-192A-4E8E-B276-41662183D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8ABC-8EE4-4F46-BF7E-1E3177DA3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6351-6E81-4C55-8D1E-A6B5E1D5B4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2205000"/>
            <a:ext cx="8207280" cy="43196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제공 파일양식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구성 및 기본 양식은 변경할 수 없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(*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은 변경 가능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애니메이션 효과는 구현되지 않을 수 있으므로 가급적 자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수 폰트 및 표 그림의 깨짐을 방지하기 위하여 파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DF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환 제출 권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 후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접수된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은 절대 </a:t>
            </a:r>
            <a:r>
              <a:rPr b="1" lang="ko-KR" sz="28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수정 불가</a:t>
            </a:r>
            <a:r>
              <a:rPr b="1" lang="ko-KR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합니다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파일명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1" i="1" lang="ko-KR" sz="20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인의 접수번호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로 작성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평가 시간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0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이므로 발표자료 작성시 참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설명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부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질의응답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i="1" lang="ko-KR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549360"/>
            <a:ext cx="8642160" cy="145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20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식약처 용역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정평가 발표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참고하여  작성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협동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협동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0-02-04T12:31:30Z</dcterms:modified>
  <cp:revision>79</cp:revision>
  <dc:subject/>
  <dc:title>2006년도 식품의약품안전청 공개발표 선정평가    ℹ 사 업 명 :   ℹ 과 제 명 :   ℹ 연 구 비 :   ℹ 신청기관 :   ℹ 주관연구책임자 :</dc:title>
</cp:coreProperties>
</file>