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AF83-1BFB-4F47-8316-5FDE60FA8AF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0B06-20D1-474E-A3E0-E289B9DFA3C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64D2-1D43-421F-9D54-FCA84C7FDE2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22EA-152C-401F-AABD-E0E4EF7B0E1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EDEA-E450-4989-94C5-4D0B8DB9E70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ABD3-B801-4229-B7EC-B8D0DE7F5BF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DD70-029E-4A15-A87B-2764063033B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5A48-182F-4F1C-8F0E-47EBC335B19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86E5-7364-4380-B1D8-59E9E58B23F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0FA4-8BDE-4A2E-97E6-196226E5015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D5EE-94A2-440D-A79F-A57914629E6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DBEC-1B0B-4233-BADA-70700DD8A09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75BC-1703-4756-AFE5-B6240A3D337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ED83-3C5F-43FB-93C6-3FC39D240C8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FDDC1-EFC5-4F9F-82A1-F0C10B726F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B3489-5E66-456E-86D7-681C5C2D76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E22C4-D30E-457A-AB34-1FE9B5FB14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6EAA2-09A7-47CD-AE82-0606AB7D9D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7C5B0-86EE-4D73-9A54-85A7FD28DB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BB1C6-907B-432C-833F-1B82AE46D0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F520E-478B-4540-B486-7F21FA72CD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6A6B2-A795-4DAE-AE9F-2F7426F183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75A09-CC67-4F69-9AE3-40A359181B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3D817-FFFD-4474-9206-6E4FBCC765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EC3BE-6CC0-4FCD-A15C-9F495C3215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F4DA3-5B2D-47CE-902B-B454300490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6296-1426-41DC-820E-C23EDFFD50C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68360" y="2205000"/>
            <a:ext cx="8207280" cy="43196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◎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표자료 제공 파일양식 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표자료의 구성 및 기본 양식은 변경할 수 없음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(*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폰트 및 배경 등은 변경 가능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표자료의 페이지 수 제한 없음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애니메이션 효과는 구현되지 않을 수 있으므로 가급적 자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수 폰트 및 표 그림의 깨짐을 방지하기 위하여 파일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DF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환 제출 권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※ </a:t>
            </a:r>
            <a:r>
              <a:rPr b="1" lang="ko-KR" sz="2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제출 후</a:t>
            </a:r>
            <a:r>
              <a:rPr b="1" lang="en-US" sz="2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, </a:t>
            </a:r>
            <a:r>
              <a:rPr b="1" lang="ko-KR" sz="2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접수된</a:t>
            </a:r>
            <a:r>
              <a:rPr b="1" lang="en-US" sz="2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ko-KR" sz="2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파일은 절대 </a:t>
            </a:r>
            <a:r>
              <a:rPr b="1" lang="ko-KR" sz="2800" spc="-1" strike="noStrike" u="sng">
                <a:solidFill>
                  <a:srgbClr val="ff0000"/>
                </a:solidFill>
                <a:uFillTx/>
                <a:latin typeface="맑은 고딕"/>
                <a:ea typeface="맑은 고딕"/>
              </a:rPr>
              <a:t>수정 불가</a:t>
            </a:r>
            <a:r>
              <a:rPr b="1" lang="ko-KR" sz="2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합니다</a:t>
            </a:r>
            <a:r>
              <a:rPr b="1" lang="en-US" sz="2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◎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표자료 파일명은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“</a:t>
            </a:r>
            <a:r>
              <a:rPr b="1" i="1" lang="ko-KR" sz="20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본인의 접수번호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”로 작성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◎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표평가 시간은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0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이므로 발표자료 작성시 참고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FP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설명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관부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평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5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질의응답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※ </a:t>
            </a:r>
            <a:r>
              <a:rPr b="1" i="1" lang="ko-KR" sz="24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본 페이지는 발표자료에서 삭제해 주시기 바랍니다</a:t>
            </a:r>
            <a:r>
              <a:rPr b="1" i="1" lang="en-US" sz="24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250920" y="549360"/>
            <a:ext cx="8642160" cy="14583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20</a:t>
            </a:r>
            <a:r>
              <a:rPr b="0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식약처 용역연구개발과제 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선정평가 발표자료 작성시 주의사항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참고하여  작성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협동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협동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0-02-04T12:31:30Z</dcterms:modified>
  <cp:revision>79</cp:revision>
  <dc:subject/>
  <dc:title>2006년도 식품의약품안전청 공개발표 선정평가    ℹ 사 업 명 :   ℹ 과 제 명 :   ℹ 연 구 비 :   ℹ 신청기관 :   ℹ 주관연구책임자 :</dc:title>
</cp:coreProperties>
</file>